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F32C-8F6B-4E8D-9F59-E5336128E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57F3-5D85-4A43-A42F-DC339F32B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E75A-C802-4206-9E4B-9E041DA6F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A1BA-CB24-4235-A821-09B591E4D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BF70-4D69-4A2D-B246-7F714808D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CED9-90E9-48A4-8FE7-BF1039EED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5559-DC0D-44C1-A73C-CAA598100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2A16-C187-48F8-8F65-8F8040CDA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8FEB-5901-4BC2-A01C-A358C953E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57F19-F9E5-43FD-98A0-5FD1EDEBF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A068-78C3-484E-8A75-55DC1574F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C4BBC-07DC-40E3-8E0E-157615F49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37F78-9A7E-4CFE-AC8E-88EFE7436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9E2F7-E86C-4D6E-AACC-A85B66484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4C723-3E25-4DD0-9E30-7372F0334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364BF-2870-476E-AB54-27B7AF4A0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0B9F5-2392-4289-B072-9BA15ACC6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7C0F-FE15-405D-8DE4-60C745CDE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2D6E-44A3-458C-887F-825D07681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5EDB3-DC45-42E0-A047-EB1E75EB7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E2881-2D04-41C2-9804-E9707BC85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09A2-8855-4524-B563-331E01719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04920" y="117360"/>
            <a:ext cx="8534160" cy="671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ony Qui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which term is described be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bal irony   situational irony   ambiguity  coincidence   bad ti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________I saw her duc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_______ My mom showed up at the movies the same time I did with my sis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_______ “Your children are just so nice!” she said as they threw rocks at 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_______ "In my opinion, you will be very fortunate to get this person to work for yo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______  You give away your warm clothes to move to Colombia, but it turns out it snows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_______ Students hate annoying professo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_______  The airline pilot died in a car crash.</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_______ You and your friend show up at a party in the exact same outfit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_______ I am pleased to say that this candidate is a former colleague of m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 ________ Sign reading: "Please wait for hostess to be seat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28600" y="304920"/>
            <a:ext cx="8610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 is finally out of patience with picking up after his son, who always leaves his dirty clothes on the floor  instead of the laundry hamper.  "Would Milord please let me know when it pleases him to have his humble servant pick up after him?" </a:t>
            </a:r>
            <a:endParaRPr b="0" lang="en-US" sz="1800" spc="-1" strike="noStrike">
              <a:solidFill>
                <a:srgbClr val="000000"/>
              </a:solidFill>
              <a:latin typeface="Arial"/>
            </a:endParaRPr>
          </a:p>
        </p:txBody>
      </p:sp>
      <p:pic>
        <p:nvPicPr>
          <p:cNvPr id="50" name="Picture 6" descr="mly0886l"/>
          <p:cNvPicPr/>
          <p:nvPr/>
        </p:nvPicPr>
        <p:blipFill>
          <a:blip r:embed="rId1"/>
          <a:stretch/>
        </p:blipFill>
        <p:spPr>
          <a:xfrm>
            <a:off x="152280" y="1600200"/>
            <a:ext cx="4876920" cy="4948200"/>
          </a:xfrm>
          <a:prstGeom prst="rect">
            <a:avLst/>
          </a:prstGeom>
          <a:ln w="0">
            <a:noFill/>
          </a:ln>
        </p:spPr>
      </p:pic>
      <p:pic>
        <p:nvPicPr>
          <p:cNvPr id="51" name="Picture 8" descr="450px-Irony"/>
          <p:cNvPicPr/>
          <p:nvPr/>
        </p:nvPicPr>
        <p:blipFill>
          <a:blip r:embed="rId2"/>
          <a:stretch/>
        </p:blipFill>
        <p:spPr>
          <a:xfrm>
            <a:off x="5048280" y="1523880"/>
            <a:ext cx="37717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irony"/>
          <p:cNvPicPr/>
          <p:nvPr/>
        </p:nvPicPr>
        <p:blipFill>
          <a:blip r:embed="rId1"/>
          <a:stretch/>
        </p:blipFill>
        <p:spPr>
          <a:xfrm>
            <a:off x="457200" y="49320"/>
            <a:ext cx="8381880" cy="67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peace_irony"/>
          <p:cNvPicPr/>
          <p:nvPr/>
        </p:nvPicPr>
        <p:blipFill>
          <a:blip r:embed="rId1"/>
          <a:stretch/>
        </p:blipFill>
        <p:spPr>
          <a:xfrm>
            <a:off x="304920" y="914400"/>
            <a:ext cx="4330440" cy="5105520"/>
          </a:xfrm>
          <a:prstGeom prst="rect">
            <a:avLst/>
          </a:prstGeom>
          <a:ln w="0">
            <a:noFill/>
          </a:ln>
        </p:spPr>
      </p:pic>
      <p:pic>
        <p:nvPicPr>
          <p:cNvPr id="54" name="Picture 7" descr="illusion"/>
          <p:cNvPicPr/>
          <p:nvPr/>
        </p:nvPicPr>
        <p:blipFill>
          <a:blip r:embed="rId2"/>
          <a:stretch/>
        </p:blipFill>
        <p:spPr>
          <a:xfrm>
            <a:off x="5105520" y="685800"/>
            <a:ext cx="3825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RhymesAmbiguity"/>
          <p:cNvPicPr/>
          <p:nvPr/>
        </p:nvPicPr>
        <p:blipFill>
          <a:blip r:embed="rId1"/>
          <a:stretch/>
        </p:blipFill>
        <p:spPr>
          <a:xfrm>
            <a:off x="228600" y="1523880"/>
            <a:ext cx="891540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ksm0800l"/>
          <p:cNvPicPr/>
          <p:nvPr/>
        </p:nvPicPr>
        <p:blipFill>
          <a:blip r:embed="rId1"/>
          <a:stretch/>
        </p:blipFill>
        <p:spPr>
          <a:xfrm>
            <a:off x="228600" y="1295280"/>
            <a:ext cx="3867120" cy="4496040"/>
          </a:xfrm>
          <a:prstGeom prst="rect">
            <a:avLst/>
          </a:prstGeom>
          <a:ln w="0">
            <a:noFill/>
          </a:ln>
        </p:spPr>
      </p:pic>
      <p:pic>
        <p:nvPicPr>
          <p:cNvPr id="57" name="Picture 9" descr="mly0967l"/>
          <p:cNvPicPr/>
          <p:nvPr/>
        </p:nvPicPr>
        <p:blipFill>
          <a:blip r:embed="rId2"/>
          <a:stretch/>
        </p:blipFill>
        <p:spPr>
          <a:xfrm>
            <a:off x="4114800" y="1295280"/>
            <a:ext cx="4876920" cy="451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04920" y="304920"/>
            <a:ext cx="85341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s at a burger restaurant in Nashvi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don't just serve hamburgers, we serve peo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might find the following sign in a residential neighborh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low children at pl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R. D. Jones And His Sewing Machine </a:t>
            </a:r>
            <a:br>
              <a:rPr sz="1800"/>
            </a:br>
            <a:r>
              <a:rPr b="0" lang="en-US" sz="1800" spc="-1" strike="noStrike">
                <a:solidFill>
                  <a:srgbClr val="000000"/>
                </a:solidFill>
                <a:latin typeface="Arial"/>
              </a:rPr>
              <a:t>The following is an ad from a real-life newspaper which appeared four days in a row - the last three hopelessly trying to correct the first day's mist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MONDAY: For sale: R. D. Jones has one sewing machine for sale. Phone 948-0707 after 7 P.M.. and ask for Mrs. Kelly who lives with him chea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TUESDAY: Notice: We regret having erred In R. D. Jones' ad yesterday. It should have read "One sewing machine for sale cheap. Phone 948-0707 and ask for Mrs. Kelly, who lives with him after 7 P.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EDNESDAY: Notice: R. D. Jones has informed us that he has received several annoying telephone calls because of the error we made in the classified ad yesterday. The ad stands correct as follows: "For sale -- R. D. Jones has one sewing machine for sale. Cheap. Phone 948-0707 after 7 P.M. and ask for Mrs. Kelly who loves with h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HURSDAY: Notice: I, R. D. Jones, have no sewing machine for sale. I intentionally broke it. Don't call 948-0707 as I have had the phone disconnected. I have not been carrying on with Mrs. Kelly. Until yesterday she was my housekeeper, but she has now qu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04920" y="228600"/>
            <a:ext cx="838188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WASHING MACHINES: PLEASE REMOVE ALL YOUR CLOTHES WHEN THE LIGHT GOES O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a secondhand shop: WE EXCHANGE ANYTHING - BICYCLES, WASHING MACHINES, ETC. WHY NOT BRING YOUR WIFE ALONG AND GET A WONDERFUL BAR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a disco: SMARTS IS THE MOST EXCLUSIVE DISCO IN TOWN. EVERYONE WELCO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 in a dry cleaner's window: ANYONE LEAVING THEIR GARMENTS HERE FOR MORE THAN 30 DAYS WILL BE DISPOSED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on a repair shop door: WE CAN REPAIR ANYTHING. (PLEASE KNOCK HARD ON THE DOOR - THE BELL DOESN'T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tted in a toilet in a London office block: TOILET OUT OF ORDER. PLEASE USE FLOOR BE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0:29:05Z</dcterms:created>
  <dc:creator>Steve Carpenter</dc:creator>
  <dc:description/>
  <dc:language>en-US</dc:language>
  <cp:lastModifiedBy>Dan Olsen</cp:lastModifiedBy>
  <dcterms:modified xsi:type="dcterms:W3CDTF">2011-04-05T13:03:29Z</dcterms:modified>
  <cp:revision>8</cp:revision>
  <dc:subject/>
  <dc:title>Slide 1</dc:title>
</cp:coreProperties>
</file>